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7D9-88AB-454B-A3CA-E9FCD2E6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744-04A2-4E74-ACC8-4EC01BC4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7A49C-CD17-4255-BC01-093185C3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AFC5B-D276-4C87-9376-351E8D67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00145-ABEB-49DB-B4A6-D064B118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CFB96-A55C-4CF8-8842-5FE3862A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8F8F2-C829-4407-B1F0-EE4A0BB1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823F1-EF3D-4C9B-AE92-C3F78C5C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D758B-8960-4861-A0BD-EC605F23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65D85-C4A7-42D9-BE39-BAAA5F37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CCA72-02AE-4B9D-9CBA-A7630235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04010-01EA-478F-902F-89C8AA6F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E27E-5F86-4A89-A699-7C6A3020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ABF42-64C4-46C7-8883-93C3D49F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DB04F-B8E0-4BD5-8992-EEAD8FDA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2C474-0A2A-45C9-A8D0-4A5BCC08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2A795-57D7-430F-9951-4EBD397F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348A2-E5BD-46D1-ACFA-9ECB254C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4B65C-558E-42EA-BD3E-0ECF5F11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6B51B-B700-4A2C-B1AC-2B3B502F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26505-15B2-41E9-A19F-83F92661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ADBE6-139F-46E9-BF67-B5667A10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65BCB-8883-478C-8711-7E3E4C10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9D1E-7DE1-41AB-8117-F7FB0A7B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4EB62-6B16-4BC3-A27E-0F61896A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0386E-1D76-40D9-B939-45221BF6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5EC8D-368F-43B0-953B-BBF06B88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979AD-BE7E-4970-896E-2B39B3FF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60E82-0F28-4788-A19F-AD4CBBD5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01ACD-C70F-407E-AC24-CD355ABD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ED63E-13A8-434C-A374-092EC68B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104F3-6623-4BCE-AF5D-941BE283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AB570-2ECB-4419-B4A4-965E5B3E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EF05E-CA8C-4ADE-B1FF-AEDBE2CF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4C39-E8D0-4D77-BF9C-4CAA7CFE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7770C-EE6C-4002-A0D5-9034D320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EE659-A1D7-4D84-94A4-4A3EC553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C72DC-7C1B-4402-80F4-9CC209FD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B0BB8-B161-45A9-8980-DF1093D9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58B1B-E110-4268-9F23-83D11A3E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A8BE8-117E-46F3-90DC-545038DB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0DF62-0FD5-4682-B193-163BAEFA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A8D61-B33E-4926-B0DC-F3D0BAB7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91306-ED9F-417E-B37E-60AF71A5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89E33-9A55-4834-82B0-7F2C32A5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0199-2D9D-4B8A-80C1-4CCCDA84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C554A-494D-452A-8C77-E35985D9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E6871-088A-4537-A6AE-13AC9D28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5371E-9698-4AAB-9A63-2FC35F2D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CF063-D795-437C-BFF2-B4CCFC30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0C1F9-E5FC-4C0A-8ED7-11C6503D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AB1B-4615-4AB9-A0F3-5954F81E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C8C1-E670-47BA-8543-41DA2695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F0F1-4BA7-4472-9D98-D753E481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B581-9CF7-4026-84C4-0E929024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FF27-4099-4237-AC5F-CA8609EB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013-73A1-487F-B4E5-795BF03D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5C1E-0106-4602-AD70-44D761A8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55EA-674E-4F92-B48B-944C2EEA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2DBD-9C4D-48D2-82C7-0B212ED2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C2B3-61DF-4825-8482-BB39ABED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B999-79BA-4685-BB20-5A47E29B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CFB3-E45C-4C4E-862D-AE594D04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685B-13ED-4840-BBA2-688B6B72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CD1D3-A881-49B5-8AC2-3EA3DFAF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E5336-E0F1-44F6-B825-FD8B2952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AF2F-FE90-421D-A38A-1EFB3213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A6B-94BE-4516-BE63-BCACFE10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E611-E2A5-4A76-B460-29640D9F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6F63-C3CD-4D9E-9C89-66B781D4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D6149-B801-464F-89DE-55EA02A2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40E33-380E-4B19-A003-0FEF53ED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5946D-A986-4CAB-9471-90E936B9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C0673-CAB0-4D8C-9393-C5F208F7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9891B-D990-4495-AEBC-FB0DB0DE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1460A-5C6B-4427-A851-D7B759F4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D069F-1192-4D76-9202-6D524E41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9D3FA-22F9-44D9-926A-4F82726D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B8E-5ADD-4755-B5EC-652873A5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15C40-4FC0-4660-AA6F-EEE8B353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EFD10-8718-4CB3-AB7B-1868CE80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7952F-7A79-4FAA-8D09-CF05781D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0B4D1-F446-4552-8C34-A3C343BB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78C97-DD29-4E88-8742-4E91E27C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988F7-7454-4027-A177-7BEB35DC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EA9E7-14A1-4CF4-8BA4-8F21CC8D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0414D-00D6-4C27-B1D6-E8FC9B96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E6603-2507-493D-8CD8-59118AEA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8968C-D157-4338-85F4-3C3D7A0A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0E3-C35F-4E1A-90AA-16D58B34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C9CE1-F0D6-4D4A-A170-379FCCB6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1F907-46C6-49C4-BEE5-10BDB8CF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A0D9B-AB1D-4E62-B06B-017B14E9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140F7-9766-4704-9A5E-271E962E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9C751-EF02-4EAE-AC8B-1FB7A19A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94B86-B271-493E-94EA-2E080645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5C8E9-8FA0-4FA2-9C02-972C8D3D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693B9-7860-42E8-ABA9-CE59BAAE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1F498-CD13-4A72-B543-91859589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E3A61-5EDD-4121-BD8F-E748D467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445-19E4-4B93-8871-BAB1B998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01587-80C5-4818-A8E0-8C184C1B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8031B-BBA3-4F49-8DFF-AE28A4EF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DD679-ADEE-4F15-B626-071BEA2D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96F48-90C9-44DE-ABFB-05AA5FEB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F2B6B-C96F-437D-BAD0-8ED2FB70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BB53E-2137-482B-A150-A323F339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4F320-9A2C-49DF-A48C-8F9C71ED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DAD80-8B2E-4FE1-8F15-EB917285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C5204-0008-414A-B5AB-E11AE26C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AE251-C4C0-4BF0-B026-6F9B986A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C23-851F-4E85-A99C-F9E639DA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FB8DB-08E8-4722-887A-23B743A2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CBD28-5164-4C21-9832-170C9392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FB080-317D-45EB-BAE6-0FFFF566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9D042-DFDB-4F06-AFE4-1281172D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AD817-E441-48E1-8208-3A46AB44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AC378-231E-4563-AC76-CEDD91FE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83D00-BD97-4DFA-90A2-DC989387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20EEC-5C59-48B7-A53F-D6030DC7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66D78-4CD7-4907-BCBC-07A14AA7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F3226-3AF6-4368-8FBB-5585CA43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E4D-8CE3-43F9-8B0F-3827BDD4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AE03F-545C-4382-A6B5-29311ED5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41211-84A3-4157-A502-F175E4E8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5BE06-57E8-4977-8092-A9A7FD3E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2F43E-F75F-4541-8955-737F37C1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5B24A-3A98-4A77-97E2-4E6081B5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A2F14-B488-4797-8950-A1076BDF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18FC1-399B-4D4C-AA90-ACC550B4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5652C-D04F-4674-955D-4BFC089D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55DEA-42C5-4927-80F3-B3AAF8C2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EBB18-5680-4B97-9158-8C798ADC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F24-7CA3-41C7-99E7-B05C2124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34809-DA42-431E-A5B4-B2DF37BD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B4673-9C3F-4954-B1BD-2272E8C2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27F5B-F6BE-4A8D-B2BD-0CE98B20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B71E9-BB96-4BC2-B8D4-FD95CB9D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17371-9EBA-4261-B238-CCBA011D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DEE69-B428-426B-856C-281A1072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0636C-F98B-4F92-9B98-0B0A2E32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E24C8-9CAC-4E65-9F7D-1CCD89E4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E3F21-1F53-4304-940E-56CA0293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57261-9DC9-4361-AAF4-BFFD69C6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3F57-444D-4BD8-B96A-D04D9C41AFD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9EA7-2CD8-4254-9B31-0558BF44680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6B95-831E-42D0-A84C-C85D1C9582C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E86F-0DA9-4189-9B83-C8AC1A87BFA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1D4E-DB6E-4291-8626-118E0F5ABA3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E911-B489-44CE-9664-60D5AEE115B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38C3-56A2-4613-AB2D-DF45C7E8C3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75B6-A129-4411-813D-988DC021D1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F4F5-2DCC-43C6-92B9-B296EE646BB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A38E-D200-4C39-9C3B-C0E3167F188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913A-96B2-45FE-B50F-F5062E3B545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13A6-AEB8-4AF1-B927-021D6116DD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72 Radostná pies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savým tón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ť pieseň v d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ožeň tieň, bolesť a žia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Buď Bohu sláva za lásky da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nás tak mil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ý, kto chce, so mn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ievať si smie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nádej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šnikov j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pozemským pútnikom skláňa sa,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to ho radostne nasled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savým tón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ť pieseň v d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ožeň tieň, bolesť a žia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Buď Bohu sláva za lásky da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nás tak milova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á pieseň vždy svetom nech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m Otcom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voriteľ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zvesti tej nádejn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techy zdr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Syn Boží 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savým tón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ť pieseň v d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ožeň tieň, bolesť a žia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Buď Bohu sláva za lásky da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nás tak mil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ísme nám zjavil Bo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sti pl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zem že zostúp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k n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beských zástupo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cty sa vz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aránkom Božím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k nám s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savým tón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ť pieseň v d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ožeň tieň, bolesť a žia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Buď Bohu sláva za lásky da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nás tak mil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k ovcu zblúdil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sveta tmá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šiel ma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ám už str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svojom ovčinci privíta rá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ých, čo s láskou m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chcú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5-29T09:05:52Z</dcterms:modified>
  <cp:revision>21</cp:revision>
  <dc:subject/>
  <dc:title>Je veľký náš Pán, on slávy je Kráľ Nech do všetkých strán  spev vrúcnych znie chvál.</dc:title>
</cp:coreProperties>
</file>